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D308-FCD5-4848-94C0-EB230C8E0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6F40-710C-4F5F-B57E-D8F0103E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7D81-7DFF-42C6-BFD6-4AE434A0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10AC-FF34-4744-A0C9-A4623B21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F139-6C45-4CAE-A57F-6D7A2181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73AF-13E8-4F12-868A-40D1127C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4672-8519-4586-9856-556EBEAD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006B-6B5E-4AB5-8CCB-55954537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82BE-115F-47F7-A682-6C7EE9BF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357D-E70B-4A1A-8972-D8B9574A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A811-366A-4A21-A07E-092F5645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0E93-3239-432A-9550-7A7400E1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E98F-A5F3-4283-867B-44F9E8A72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se/imgres?imgurl=http://members.tripod.com/minata/brgjrl_2.jpg&amp;imgrefurl=http://members.tripod.com/minata/bps_24_dec.html&amp;h=430&amp;w=430&amp;sz=59&amp;hl=sv&amp;start=3&amp;tbnid=8GNTyqh1AZ8JQM:&amp;tbnh=126&amp;tbnw=126&amp;prev=/images%3Fq%3DBirger%2BJarl%26gbv%3D2%26svnum%3D10%26hl%3Dsv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nq.se/archive/Man-made/Symbols%20and%20Signs/slides/IMG_0065.jpg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verige under medelti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64000" y="3789360"/>
            <a:ext cx="1776240" cy="1776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476280"/>
            <a:ext cx="1355760" cy="1440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372360" y="404640"/>
            <a:ext cx="16002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lmarunio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97-152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mark, Norge och Sverige relativt homogent områ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k av Pommern blir unionskung, Margareta styr i bakgrund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onomiskt lönsam för samtliga län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486080" cy="1666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348000" y="4869000"/>
            <a:ext cx="180036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oligt 1400-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erige styrs ofta av en riksföreståndare, unionsmotstånd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70 Sten Sture d.ä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istian I unionskung, vill öka sitt inflytande över Sveri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71 slaget vid Brunkeberg, Sverige vinner. Sverige ”utanför” uni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471 slaget vid Brunkebe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559908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00-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12 Sten Sture d.y. riksförestånd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istian II kung i Danmark – vill återföra Sverige till uni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20 landstiger danskarna i Västergöt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20 Sten Sture dödas. Danskarna tränger upp i Sverige, intar Stockho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erige tillhör mig”   Kristian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20 Stockholms blodb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ättegång mot Sten Stures anhäng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 avrät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ål = kväva unionsmotståndet i Sveri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708360" y="3500280"/>
            <a:ext cx="4602240" cy="28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den krist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0-t Ansgar anländer till N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änder sig till kungar och hövdingar ----- folket följer e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0-t tysk och engelsk mission, Norden knyts till det kristna västerland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utet av 1000-t är Sverige kristn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932360" y="2205000"/>
            <a:ext cx="336240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nstrid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Kamp mellan Sverkerätten och Eriksät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1100-1200-t Sverige är ett förbund av landsk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Tvister avgörs på t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Kungen har liten ma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Kungen besökte tingen den s.k. Eriksgat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Kungaval ------ strider mellan ätt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lkungarna och Jar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00-1200-t kungen liten ma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kungarna ökad makt 1200-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rlen basar över ledun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ger Jarl styr Sverige från mitten av 1200-t. Fick sin son Valdemar vald till kung 125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demar avsattes av sin bror Magnus Ladulås, slaget vid Hova 12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makten stä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attesystemet effektivis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ånga borgar byggs t ex Kalmar, Öreb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435640" y="3645000"/>
            <a:ext cx="24526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dslag istället för landskapsl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gar för hela ri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kil lag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frid, kvinnofrid, tingsfrid, kyrkofrid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a skatter till kungamak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50 allmän landsla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381720" y="3573360"/>
            <a:ext cx="21351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Kontrollerade handel mellan Mälaren och Östersjö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Vid Mälarens inlopp byggdes borgen Tre kronor, Stockholm växer f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Mälardalen – politiskt cen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Köpmän växer fram till en borgarklass i städ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Fri bondeklass, rätt att delta vid tingen et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1300-t kamp mellan adel och kungamak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Riksrådet etableras – stormän och kyrkan mäktigast män, Sveriges Magna Cha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Alsnö stadggar 1280 - frä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Magnus Eriksson kung, vill stärka kungamakten ytterlig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Adeln gör uppror – söker stöd av tyska fur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Magnus Eriksson fördri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Albert av Mecklenburg väljs till k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Tyska fogdar placeras på svenska borgar, far fram hårt mot befolknin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19047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nmark ökar sitt inflyta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demar Atterdag (Danmarks kung) utnyttjar oron, intar Vi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61 Visby brandskatt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79640" y="3357720"/>
            <a:ext cx="4862520" cy="28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Missnöje med Albert av Mecklenburg samt tyska fog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Svenska stormän vänder sig till Danmark, drottning Margareta (Regent i Danmark och No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1389 besegras Albert av Mecklenburg, slaget vid Falkö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12:00:18Z</dcterms:created>
  <dc:creator>thstr16</dc:creator>
  <dc:description/>
  <dc:language>en-US</dc:language>
  <cp:lastModifiedBy>thstr16</cp:lastModifiedBy>
  <dcterms:modified xsi:type="dcterms:W3CDTF">2007-10-02T09:58:10Z</dcterms:modified>
  <cp:revision>13</cp:revision>
  <dc:subject/>
  <dc:title>Sverige under medeltiden</dc:title>
</cp:coreProperties>
</file>